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5507-D64E-464D-9CC9-F3098195D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F1E6-56A7-481C-9298-E842893FB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B01D-0F7A-4DAE-ABB0-95066FD58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55C3-0C03-4675-A6E7-4696992D3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C768F-636F-4ED2-91A9-64FCB1CD0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72F29-9094-40E8-92B6-A335A948A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2E4CD-A605-467E-BA0B-00F580296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F4AA4-4875-4F3D-9647-6A5068955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EC10C-4FAE-4E31-83B2-3238233BD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1587D-FFD8-4E17-A381-0959B6E08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ED551-54C3-452B-B358-FBF0D80FC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B56F-B463-4722-A241-A10BDBF10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DAC0E-366F-46FA-89F4-683F04E3D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2FA1B-EA0C-4E88-A595-6D63C30AF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DF066-AA98-4027-BFCA-DEB6D4014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4CE71-9277-4EBB-B26C-F6D2B287F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0B6F4-EE92-4DB4-9BFE-188EA8163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AD18-2A49-4BEC-B393-8B299528C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CC1C-B19B-46B2-A1A2-96511D936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77EB-4417-4E7D-B226-CC64ADCE0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E63C-6BE1-4494-B395-D46AA88E7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6B0A-191A-4EB6-9E0F-0AE7EC54B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8D73-C7E2-481F-BA70-C63053D4E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90CA-E3D4-4AFA-BD1C-D95E77C67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d0dae2"/>
                </a:gs>
                <a:gs pos="100000">
                  <a:srgbClr val="c3cc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d0dae2"/>
                </a:gs>
                <a:gs pos="100000">
                  <a:srgbClr val="e7edf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46895-2D2E-4434-8A57-90B71A5927F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d0dae2"/>
                </a:gs>
                <a:gs pos="100000">
                  <a:srgbClr val="afb7b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d0dae2"/>
                </a:gs>
                <a:gs pos="100000">
                  <a:srgbClr val="e7edf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43E97-D231-494C-8840-4181D141E90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3276360"/>
            <a:ext cx="77724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ahoma"/>
              </a:rPr>
              <a:t>Живая оболочка Земли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990720" y="4648320"/>
            <a:ext cx="7772400" cy="1904760"/>
          </a:xfrm>
          <a:prstGeom prst="rect">
            <a:avLst/>
          </a:prstGeom>
          <a:noFill/>
          <a:ln w="76320">
            <a:solidFill>
              <a:srgbClr val="97ad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ahoma"/>
              </a:rPr>
              <a:t>Составила: Маркова Лайма Валдисовн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учитель химии и биологии Усть-Язьвинской МСОШ Красновишерского района Пермского кр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ahoma"/>
              </a:rPr>
              <a:t>Оформила в 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ower Point</a:t>
            </a:r>
            <a:r>
              <a:rPr b="1" lang="ru-RU" sz="1800" spc="-1" strike="noStrike">
                <a:solidFill>
                  <a:srgbClr val="3333cc"/>
                </a:solidFill>
                <a:latin typeface="Tahoma"/>
              </a:rPr>
              <a:t>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ahoma"/>
              </a:rPr>
              <a:t>Добрынина Людмила Викторовна,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учитель биологии МОУ Краснооктябрьская СОШ Каргапольского района Курганской области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514600" y="457200"/>
            <a:ext cx="4267080" cy="2666880"/>
          </a:xfrm>
          <a:prstGeom prst="rect">
            <a:avLst/>
          </a:prstGeom>
          <a:ln w="57240">
            <a:solidFill>
              <a:srgbClr val="97adb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457200" y="1905120"/>
          <a:ext cx="8229600" cy="4525920"/>
        </p:xfrm>
        <a:graphic>
          <a:graphicData uri="http://schemas.openxmlformats.org/drawingml/2006/table">
            <a:tbl>
              <a:tblPr/>
              <a:tblGrid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24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</a:tblGrid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8229600" cy="711000"/>
          </a:xfrm>
          <a:prstGeom prst="rect">
            <a:avLst/>
          </a:prstGeom>
          <a:solidFill>
            <a:srgbClr val="33cccc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Живая оболочка Земли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4267440" cy="4343400"/>
          </a:xfrm>
          <a:prstGeom prst="rect">
            <a:avLst/>
          </a:prstGeom>
          <a:ln w="38160">
            <a:solidFill>
              <a:srgbClr val="97adbf"/>
            </a:solidFill>
            <a:miter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410080" y="4038480"/>
            <a:ext cx="3505320" cy="2401920"/>
          </a:xfrm>
          <a:prstGeom prst="rect">
            <a:avLst/>
          </a:prstGeom>
          <a:ln w="38160">
            <a:solidFill>
              <a:srgbClr val="97adbf"/>
            </a:solidFill>
            <a:miter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5410080" y="1828800"/>
            <a:ext cx="3505320" cy="2209680"/>
          </a:xfrm>
          <a:prstGeom prst="rect">
            <a:avLst/>
          </a:prstGeom>
          <a:ln w="38160">
            <a:solidFill>
              <a:srgbClr val="97adb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В презентации использованы иллюстрации из: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бразовательный комплекс «Биология, 10 кл.» - ©ЗАО «1С», 2009; ©OOО «1С-Паблишинг», 2009; © Издательский центр «Вентана-Граф»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екст учебника с иллюстрациями, 200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иблиотека электронных наглядных пособий «Биология. 6-9 классы» - Кирилл и Мефодий,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ольшая энциклопедия Кирилла и Мефодия, 200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457200" y="1905120"/>
          <a:ext cx="8229600" cy="4525920"/>
        </p:xfrm>
        <a:graphic>
          <a:graphicData uri="http://schemas.openxmlformats.org/drawingml/2006/table">
            <a:tbl>
              <a:tblPr/>
              <a:tblGrid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24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</a:tblGrid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382760"/>
          </a:xfrm>
          <a:prstGeom prst="rect">
            <a:avLst/>
          </a:prstGeom>
          <a:solidFill>
            <a:srgbClr val="6666ff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Количество живого вещества той или иной биологической системы, приходящееся на единицу площади или объем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28600" y="3352680"/>
            <a:ext cx="19051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  /  S = 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705720" y="5791320"/>
            <a:ext cx="190476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  /  V  =  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457200" y="1905120"/>
          <a:ext cx="8229600" cy="4525920"/>
        </p:xfrm>
        <a:graphic>
          <a:graphicData uri="http://schemas.openxmlformats.org/drawingml/2006/table">
            <a:tbl>
              <a:tblPr/>
              <a:tblGrid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24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</a:tblGrid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320840"/>
          </a:xfrm>
          <a:prstGeom prst="rect">
            <a:avLst/>
          </a:prstGeom>
          <a:solidFill>
            <a:srgbClr val="6666ff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2. Ученый, создавший учение о биосфере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2874600" y="1669320"/>
            <a:ext cx="3396600" cy="35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88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863–1945 гг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Вернадский Владимир Иванович"/>
          <p:cNvPicPr/>
          <p:nvPr/>
        </p:nvPicPr>
        <p:blipFill>
          <a:blip r:embed="rId1"/>
          <a:stretch/>
        </p:blipFill>
        <p:spPr>
          <a:xfrm>
            <a:off x="6934320" y="4267080"/>
            <a:ext cx="1952640" cy="2400480"/>
          </a:xfrm>
          <a:prstGeom prst="rect">
            <a:avLst/>
          </a:prstGeom>
          <a:ln w="57240">
            <a:solidFill>
              <a:srgbClr val="97adb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010280" y="2590920"/>
            <a:ext cx="1905120" cy="1457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858000" y="4495680"/>
            <a:ext cx="2057400" cy="185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1" name=""/>
          <p:cNvGraphicFramePr/>
          <p:nvPr/>
        </p:nvGraphicFramePr>
        <p:xfrm>
          <a:off x="457200" y="1905120"/>
          <a:ext cx="8229600" cy="4525920"/>
        </p:xfrm>
        <a:graphic>
          <a:graphicData uri="http://schemas.openxmlformats.org/drawingml/2006/table">
            <a:tbl>
              <a:tblPr/>
              <a:tblGrid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24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</a:tblGrid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320840"/>
          </a:xfrm>
          <a:prstGeom prst="rect">
            <a:avLst/>
          </a:prstGeom>
          <a:solidFill>
            <a:srgbClr val="6666ff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3.Вещество, образованное совокупностью организмов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228600" y="3505320"/>
            <a:ext cx="1676520" cy="14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457200" y="1905120"/>
          <a:ext cx="8229600" cy="4525920"/>
        </p:xfrm>
        <a:graphic>
          <a:graphicData uri="http://schemas.openxmlformats.org/drawingml/2006/table">
            <a:tbl>
              <a:tblPr/>
              <a:tblGrid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24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</a:tblGrid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3400"/>
            <a:ext cx="8229600" cy="1739880"/>
          </a:xfrm>
          <a:prstGeom prst="rect">
            <a:avLst/>
          </a:prstGeom>
          <a:solidFill>
            <a:srgbClr val="6666ff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4.Живые организмы, составляющие основную часть биомассы планеты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457200" y="1905120"/>
          <a:ext cx="8229600" cy="4525920"/>
        </p:xfrm>
        <a:graphic>
          <a:graphicData uri="http://schemas.openxmlformats.org/drawingml/2006/table">
            <a:tbl>
              <a:tblPr/>
              <a:tblGrid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24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</a:tblGrid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17480"/>
            <a:ext cx="8229600" cy="711360"/>
          </a:xfrm>
          <a:prstGeom prst="rect">
            <a:avLst/>
          </a:prstGeom>
          <a:solidFill>
            <a:srgbClr val="6666ff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5.Газовая оболочка Земли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rcRect l="39064" t="17709" r="19532" b="7294"/>
          <a:stretch/>
        </p:blipFill>
        <p:spPr>
          <a:xfrm>
            <a:off x="7010280" y="4343400"/>
            <a:ext cx="1851120" cy="2209680"/>
          </a:xfrm>
          <a:prstGeom prst="rect">
            <a:avLst/>
          </a:prstGeom>
          <a:ln w="38160">
            <a:solidFill>
              <a:srgbClr val="97adb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457200" y="1905120"/>
          <a:ext cx="8229600" cy="4525920"/>
        </p:xfrm>
        <a:graphic>
          <a:graphicData uri="http://schemas.openxmlformats.org/drawingml/2006/table">
            <a:tbl>
              <a:tblPr/>
              <a:tblGrid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24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</a:tblGrid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17480"/>
            <a:ext cx="8229600" cy="711360"/>
          </a:xfrm>
          <a:prstGeom prst="rect">
            <a:avLst/>
          </a:prstGeom>
          <a:solidFill>
            <a:srgbClr val="6666ff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6. Элемент - органоген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010280" y="4648320"/>
            <a:ext cx="1676520" cy="1616040"/>
          </a:xfrm>
          <a:prstGeom prst="rect">
            <a:avLst/>
          </a:prstGeom>
          <a:ln w="38160">
            <a:solidFill>
              <a:srgbClr val="97adbf"/>
            </a:solidFill>
            <a:miter/>
          </a:ln>
        </p:spPr>
      </p:pic>
      <p:sp>
        <p:nvSpPr>
          <p:cNvPr id="112" name=""/>
          <p:cNvSpPr txBox="1"/>
          <p:nvPr/>
        </p:nvSpPr>
        <p:spPr>
          <a:xfrm>
            <a:off x="6477120" y="2743200"/>
            <a:ext cx="18478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N   O    C    H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" name=""/>
          <p:cNvSpPr txBox="1"/>
          <p:nvPr/>
        </p:nvSpPr>
        <p:spPr>
          <a:xfrm rot="19768200">
            <a:off x="228600" y="3809880"/>
            <a:ext cx="24382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K   Na  S  P  Cl  Fe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457200" y="1905120"/>
          <a:ext cx="8229600" cy="4525920"/>
        </p:xfrm>
        <a:graphic>
          <a:graphicData uri="http://schemas.openxmlformats.org/drawingml/2006/table">
            <a:tbl>
              <a:tblPr/>
              <a:tblGrid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24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</a:tblGrid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16880"/>
            <a:ext cx="8229600" cy="1312920"/>
          </a:xfrm>
          <a:prstGeom prst="rect">
            <a:avLst/>
          </a:prstGeom>
          <a:solidFill>
            <a:srgbClr val="6666ff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7. Движение веществ в природе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457200" y="1905120"/>
          <a:ext cx="8229600" cy="4525920"/>
        </p:xfrm>
        <a:graphic>
          <a:graphicData uri="http://schemas.openxmlformats.org/drawingml/2006/table">
            <a:tbl>
              <a:tblPr/>
              <a:tblGrid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24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</a:tblGrid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42640"/>
            <a:ext cx="8229600" cy="1749240"/>
          </a:xfrm>
          <a:prstGeom prst="rect">
            <a:avLst/>
          </a:prstGeom>
          <a:solidFill>
            <a:srgbClr val="6666ff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8.Важный компонент биосферы и один из необходимых факторов существования живых организмов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rcRect l="39064" t="17709" r="19532" b="7294"/>
          <a:stretch/>
        </p:blipFill>
        <p:spPr>
          <a:xfrm>
            <a:off x="7010280" y="4343400"/>
            <a:ext cx="1851120" cy="2209680"/>
          </a:xfrm>
          <a:prstGeom prst="rect">
            <a:avLst/>
          </a:prstGeom>
          <a:ln w="38160">
            <a:solidFill>
              <a:srgbClr val="97adb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chitel</cp:lastModifiedBy>
  <dcterms:modified xsi:type="dcterms:W3CDTF">2011-03-05T15:30:54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